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6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7C0-6560-4507-B5F2-81E64BC4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021-AA7D-4B53-8DD3-ADF77FE9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 drawn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bm.com/developerworks/xml/library/j-sparql/ slide 8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969-4A72-46DB-8962-93FE6E48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ng.utoledo.edu/eecs/research/groups/images/csis_log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7C5F-C0DC-49A3-8A79-C78271A8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ook at scale free network definitions in wikipedia, web, semantic net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F4F-5B7F-4D3C-81EA-B7360691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524-F7D6-4C52-812A-47D7ACC8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411-E86F-42A1-B23F-94962C4E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om heath’s Austin presentation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45C-CA7F-4BF1-B44D-352131087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7C43-84BC-4E92-BFFA-151EB5E40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792-A087-4226-8F9A-08FC5E88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08A-EA54-4355-86D8-B17E4719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774720" y="3387240"/>
            <a:ext cx="7772400" cy="2675160"/>
            <a:chOff x="774720" y="3387240"/>
            <a:chExt cx="7772400" cy="2675160"/>
          </a:xfrm>
        </p:grpSpPr>
        <p:sp>
          <p:nvSpPr>
            <p:cNvPr id="322" name="Rectangle 5"/>
            <p:cNvSpPr/>
            <p:nvPr/>
          </p:nvSpPr>
          <p:spPr>
            <a:xfrm flipV="1">
              <a:off x="7099200" y="3386880"/>
              <a:ext cx="1447920" cy="764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AutoShape 6"/>
            <p:cNvCxnSpPr>
              <a:stCxn id="322" idx="1"/>
              <a:endCxn id="324" idx="3"/>
            </p:cNvCxnSpPr>
            <p:nvPr/>
          </p:nvCxnSpPr>
          <p:spPr>
            <a:xfrm flipV="1" rot="10800000">
              <a:off x="4596480" y="3769560"/>
              <a:ext cx="2490120" cy="1758240"/>
            </a:xfrm>
            <a:prstGeom prst="curvedConnector5">
              <a:avLst>
                <a:gd name="adj1" fmla="val 50000"/>
                <a:gd name="adj2" fmla="val 49989"/>
                <a:gd name="adj3" fmla="val 50000"/>
              </a:avLst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sp>
          <p:nvSpPr>
            <p:cNvPr id="324" name="Rectangle 7"/>
            <p:cNvSpPr/>
            <p:nvPr/>
          </p:nvSpPr>
          <p:spPr>
            <a:xfrm flipV="1">
              <a:off x="774720" y="4992480"/>
              <a:ext cx="3809880" cy="106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5661-881A-47F3-8F87-144929761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Tutorial on OWL, ISWC, Sanibel Island, Florida, USA, 20th October, 2003, Sean Bechhofer,1 Ian Horrocks1 and Peter F. Patel-Schneide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7725-21CC-4354-AD21-4458B5EE6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D9DE-15C8-403D-A3DC-0163FF57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44EE-7D19-4078-B133-CF88CE02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37B-7717-41F7-8AFB-35EB67C9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10A-E69C-4D08-A37E-91C78345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851-3A81-46C7-8D0B-76CCE7AC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CF2-7D73-4E77-B26B-05E33FF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D1F-2CB0-4691-A8FC-A1EA9A9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C56-54C6-49D5-A06D-044B8872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2B1-983A-4720-82DA-65DEF97F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905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AF9-FFBC-4A35-9605-0BB409A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91B-D0BC-4C35-A3E6-F2CD22A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734-439D-4361-9F30-3CCCAD0A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E01-73A2-4C21-A8CA-E8CF3B2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5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8E8-0F65-4B7D-A1C6-ADE7F900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217-B70E-4320-9EF6-0D5FE22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293-53DE-42AC-B50D-2B65EC1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4EA-0169-419D-9A97-D05C934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IDD PP POSITIV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0F8-E15F-4558-A07B-5EB53EDF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IDD PP POSITIV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fox@cs.rpi.edu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w3.org/TR/owl-features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jobe.org/2005/04-sparql/SPARQLreference-1.8-u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3.org/2005/rules/wiki/RIF_Working_Group" TargetMode="External"/><Relationship Id="rId2" Type="http://schemas.openxmlformats.org/officeDocument/2006/relationships/hyperlink" Target="http://www.w3.org/2005/rules/wiki/RIF_FAQ" TargetMode="External"/><Relationship Id="rId3" Type="http://schemas.openxmlformats.org/officeDocument/2006/relationships/hyperlink" Target="http://www.w3.org/2005/rules/wiki/RIF_FAQ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Semantic_Web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cmapspublic3.ihmc.us/servlet/SBReadResourceServlet?rid=1286316097170_183793435_22228&amp;partName=htmlte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cmapspublic3.ihmc.us/servlet/SBReadResourceServlet?rid=1299017667444_1897825847_19570&amp;partName=htmltext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weet.jpl.nasa.gov/" TargetMode="External"/><Relationship Id="rId2" Type="http://schemas.openxmlformats.org/officeDocument/2006/relationships/hyperlink" Target="http://sweet.jpl.nasa.gov/sweetCF.xls" TargetMode="External"/><Relationship Id="rId3" Type="http://schemas.openxmlformats.org/officeDocument/2006/relationships/hyperlink" Target="http://wiki.esipfed.org/index.php/SWEET_Governance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sml.badc.rl.ac.uk/" TargetMode="External"/><Relationship Id="rId2" Type="http://schemas.openxmlformats.org/officeDocument/2006/relationships/hyperlink" Target="http://proj.badc.rl.ac.uk/moles/wiki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pfox@cs.rpi.edu" TargetMode="External"/><Relationship Id="rId2" Type="http://schemas.openxmlformats.org/officeDocument/2006/relationships/hyperlink" Target="http://wiki.esipfed.org/index.php/Semantic_Web" TargetMode="External"/><Relationship Id="rId3" Type="http://schemas.openxmlformats.org/officeDocument/2006/relationships/hyperlink" Target="http://rtpnet.org/pipermail/esip-semanticweb/" TargetMode="External"/><Relationship Id="rId4" Type="http://schemas.openxmlformats.org/officeDocument/2006/relationships/hyperlink" Target="http://rtpnet.org/pipermail/esip-semanticweb/" TargetMode="Externa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mapspublic3.ihmc.us/servlet/SBReadResourceServlet?rid=1252436787748_1048471551_9085&amp;partName=htmltext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w3.org/TR/owl2-overview/" TargetMode="External"/><Relationship Id="rId2" Type="http://schemas.openxmlformats.org/officeDocument/2006/relationships/hyperlink" Target="http://www.w3.org/TR/owl2-new-features/" TargetMode="External"/><Relationship Id="rId3" Type="http://schemas.openxmlformats.org/officeDocument/2006/relationships/hyperlink" Target="http://www.w3.org/TR/owl2-primer/" TargetMode="External"/><Relationship Id="rId4" Type="http://schemas.openxmlformats.org/officeDocument/2006/relationships/hyperlink" Target="http://www.w3.org/TR/owl2-quick-referenc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3.org/TR/skos-reference/" TargetMode="External"/><Relationship Id="rId2" Type="http://schemas.openxmlformats.org/officeDocument/2006/relationships/hyperlink" Target="http://swig.hpclab.ceid.upatras.gr/SKOS/Skos2Owl2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protege.stanford.edu/" TargetMode="External"/><Relationship Id="rId2" Type="http://schemas.openxmlformats.org/officeDocument/2006/relationships/hyperlink" Target="http://mindswap.org/200SWOOP" TargetMode="External"/><Relationship Id="rId3" Type="http://schemas.openxmlformats.org/officeDocument/2006/relationships/hyperlink" Target="http://swoop.sourgeforge.net/" TargetMode="External"/><Relationship Id="rId4" Type="http://schemas.openxmlformats.org/officeDocument/2006/relationships/hyperlink" Target="http://www.altova.com/download/semanticworks/semantic_web_rdf_owl_edit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ksl.stanford.edu/people/dlm/papers/ontologies-come-of-age-abstract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antic Web Cluster and Energy and Climate Clu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52560" y="3499920"/>
            <a:ext cx="67881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Arial"/>
              </a:rPr>
              <a:t>ESIP Winter ECC 2-3:30pm, Jan 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929160" y="4495680"/>
            <a:ext cx="38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eter Fox (RPI) 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cs.rpi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therless World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eal.jpg"/>
          <p:cNvPicPr/>
          <p:nvPr/>
        </p:nvPicPr>
        <p:blipFill>
          <a:blip r:embed="rId2"/>
          <a:stretch/>
        </p:blipFill>
        <p:spPr>
          <a:xfrm>
            <a:off x="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TazDevilCartoon2"/>
          <p:cNvPicPr/>
          <p:nvPr/>
        </p:nvPicPr>
        <p:blipFill>
          <a:blip r:embed="rId3"/>
          <a:stretch/>
        </p:blipFill>
        <p:spPr>
          <a:xfrm>
            <a:off x="6959520" y="521964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reasoning-tutorial_p33.pdf"/>
          <p:cNvPicPr/>
          <p:nvPr/>
        </p:nvPicPr>
        <p:blipFill>
          <a:blip r:embed="rId1"/>
          <a:srcRect l="-8461" t="0" r="-8461" b="0"/>
          <a:stretch/>
        </p:blipFill>
        <p:spPr>
          <a:xfrm>
            <a:off x="112680" y="-279360"/>
            <a:ext cx="10076040" cy="666108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793-970A-43B4-A1A2-FF30EA445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50560" y="6021360"/>
            <a:ext cx="857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owl-featur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 2 for fea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lation to RDF or OW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ery - SPARQL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QL has 4 result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– Return a table of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– Return an RDF graph, based on a template in th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– Return an RDF graph, based on what the query processor is configured to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– Ask a boolean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ECT form directly returns 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d CONSTRUCT use the outcome of matching to build RDF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246-38E0-44E9-B6CF-402DC043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37600" y="6308640"/>
            <a:ext cx="78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jobe.org/2005/04-sparql/SPARQLreference-1.8-us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PARQ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odifiers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atching produces a set of solutions. This set can be modified in various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- keep only select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/LIMIT - chop the number solutions (best used with ORDER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BY - so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- yield only one row for one combination of variables an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modifiers OFFSET/LIMIT and ORDER BY always apply to all result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2618-CCC1-41F1-B7A2-C1497119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5D1-AE6A-47CC-84C7-71C292B8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146160"/>
            <a:ext cx="5699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Interchange Format (RI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lingua (similar to K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5/rules/wiki/RIF_Working_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starting (just) to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2005/rules/wiki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F_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ty: SWRL, Jena, Jess, OWL 2-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thing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 require domain expert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(or many) use case(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methodology to proceed with knowledge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you have not visited our pag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esipfed.org/index.php/Semantic_W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’s mes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rcRect l="22058" t="0" r="13551" b="0"/>
          <a:stretch/>
        </p:blipFill>
        <p:spPr>
          <a:xfrm>
            <a:off x="2521080" y="1341360"/>
            <a:ext cx="6730920" cy="5973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RPI/TWC Methodolog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371240"/>
            <a:ext cx="295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62AC-3A6C-4C4E-A08D-FF2FD18D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neutral temperature from the Millstone-Hill Fabry Perot, operating in the non-vertical mode during January 2000 as a tim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 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stone-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y Pe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ertical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temperature is a (temperature is a)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stone Hill is a (ground-based observatory is a) observ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y-Perot is a interferometer is a optical instrument is a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ertical mode is a instrument operat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0 is a date-tim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a independent variable/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is a data plot is a dat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2CF-2F1A-44B9-A56B-433C952C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2920" y="219240"/>
            <a:ext cx="6072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KR in Semantic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341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as triples: {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dicate-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fero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-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al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bry-Per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nterfe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al instrument</a:t>
            </a:r>
            <a:r>
              <a:rPr b="0" lang="en-US" sz="1800" spc="-1" strike="noStrike">
                <a:solidFill>
                  <a:srgbClr val="00ff8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c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cal instru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strument operat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measured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 operating m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measured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al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ry: select all optical instruments which have operating m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erence: infer operating modes for a Fabry-Perot Interferometer which measures neutr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38C-4FA9-4F56-8B23-57D74DA30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25560" y="342900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080320" cy="482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3656160" y="2170080"/>
            <a:ext cx="5524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e do this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P as a whole – ESIP network, FUNding Friday project, IT&amp;I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: Water Cluster, A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971640" y="5445000"/>
            <a:ext cx="54831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ci unit of exchange –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riple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linked da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LinkedDataFragment_Heath.tiff"/>
          <p:cNvPicPr/>
          <p:nvPr/>
        </p:nvPicPr>
        <p:blipFill>
          <a:blip r:embed="rId2"/>
          <a:stretch/>
        </p:blipFill>
        <p:spPr>
          <a:xfrm>
            <a:off x="36360" y="1341360"/>
            <a:ext cx="9144000" cy="412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52200" y="65167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h (2009) [annota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00160" y="4437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329400" y="1197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847600" y="1197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905400" y="2997360"/>
            <a:ext cx="6583680" cy="1107720"/>
            <a:chOff x="905400" y="2997360"/>
            <a:chExt cx="6583680" cy="1107720"/>
          </a:xfrm>
        </p:grpSpPr>
        <p:sp>
          <p:nvSpPr>
            <p:cNvPr id="101" name="TextBox 7"/>
            <p:cNvSpPr/>
            <p:nvPr/>
          </p:nvSpPr>
          <p:spPr>
            <a:xfrm>
              <a:off x="5297760" y="3357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9"/>
            <p:cNvSpPr/>
            <p:nvPr/>
          </p:nvSpPr>
          <p:spPr>
            <a:xfrm>
              <a:off x="3280320" y="36453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0"/>
            <p:cNvSpPr/>
            <p:nvPr/>
          </p:nvSpPr>
          <p:spPr>
            <a:xfrm>
              <a:off x="905400" y="3429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>
              <a:off x="6665400" y="2997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3"/>
          <p:cNvSpPr/>
          <p:nvPr/>
        </p:nvSpPr>
        <p:spPr>
          <a:xfrm>
            <a:off x="108000" y="5373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namespaces, e.g. ‘rc’, ‘foaf’, ‘dbpedia’, etc. and type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, data, function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emantics between/ in you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481040" y="11667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s (both lecture style and hands-on), gu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(across the spectrum) with community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ome] Technical infrastructure – test bed(s), e.g. triple store, SPARQL endpoint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ype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191" name="Content Placeholder 6" descr="DataFormat_0.pdf"/>
          <p:cNvPicPr/>
          <p:nvPr/>
        </p:nvPicPr>
        <p:blipFill>
          <a:blip r:embed="rId2"/>
          <a:srcRect l="-63387" t="0" r="-63387" b="0"/>
          <a:stretch/>
        </p:blipFill>
        <p:spPr>
          <a:xfrm>
            <a:off x="-4038480" y="-1219320"/>
            <a:ext cx="171576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40000" y="229680"/>
            <a:ext cx="68040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Quality Ontology Development (Quality fla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84360" y="587700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gether with Chris Lynnes’s DQSS project, started from the pixel-level quality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DQSS_QualityView"/>
          <p:cNvPicPr/>
          <p:nvPr/>
        </p:nvPicPr>
        <p:blipFill>
          <a:blip r:embed="rId1"/>
          <a:stretch/>
        </p:blipFill>
        <p:spPr>
          <a:xfrm>
            <a:off x="103320" y="134136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0000" y="23760"/>
            <a:ext cx="64436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Ontology Development (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3064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519120" y="6167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mapspublic3.ihmc.us:80/servlet/SBReadResourceServlet?rid=1286316097170_183793435_22228&amp;partName=html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quality (Uncertain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95280" y="1370160"/>
            <a:ext cx="8429760" cy="5443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5253120" y="3500280"/>
            <a:ext cx="3927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to other cmap presentations of quality ont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mapspublic3.ihmc.us:80/servlet/SBReadResourceServlet?rid=1299017667444_1897825847_19570&amp;partName=html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Stat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79480" y="1044720"/>
            <a:ext cx="8028000" cy="584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DB77-0301-474C-A74D-FB2EE382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mention just a few (so re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 (both lecture style and hands-on), guid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(across the spectrum) with community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ome] Technical infrastructure – test bed(s), e.g. triple store, SPARQL endpoint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people ;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ET (2.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8920" y="1557000"/>
            <a:ext cx="3961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weet.jpl.nasa.gov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s to C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eet.jpl.nasa.gov/sweetCF.xl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ed via Cluster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iki.esipfed.org/index.php/SWEET_Governan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3975120" y="1314360"/>
            <a:ext cx="51577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s - DP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SPIR_diag.gif"/>
          <p:cNvPicPr/>
          <p:nvPr/>
        </p:nvPicPr>
        <p:blipFill>
          <a:blip r:embed="rId3"/>
          <a:stretch/>
        </p:blipFill>
        <p:spPr>
          <a:xfrm>
            <a:off x="896760" y="1347840"/>
            <a:ext cx="73472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 of DPS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PSIR_energy.tiff"/>
          <p:cNvPicPr/>
          <p:nvPr/>
        </p:nvPicPr>
        <p:blipFill>
          <a:blip r:embed="rId3"/>
          <a:stretch/>
        </p:blipFill>
        <p:spPr>
          <a:xfrm>
            <a:off x="250920" y="1700280"/>
            <a:ext cx="4356000" cy="4457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ressure.tiff"/>
          <p:cNvPicPr/>
          <p:nvPr/>
        </p:nvPicPr>
        <p:blipFill>
          <a:blip r:embed="rId4"/>
          <a:stretch/>
        </p:blipFill>
        <p:spPr>
          <a:xfrm>
            <a:off x="4427640" y="1811160"/>
            <a:ext cx="49528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CA6-6C52-4DE4-A364-64FF1162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2006a"/>
          <p:cNvPicPr/>
          <p:nvPr/>
        </p:nvPicPr>
        <p:blipFill>
          <a:blip r:embed="rId1"/>
          <a:stretch/>
        </p:blipFill>
        <p:spPr>
          <a:xfrm>
            <a:off x="2590920" y="60948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90920" y="655308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2003/Talks/1023-iswc-tbl/slide26-0.html, http://flickr.com/photos/pshab/291147522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17520" y="5664240"/>
            <a:ext cx="4191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1981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468360" y="2060640"/>
            <a:ext cx="6770520" cy="3096360"/>
            <a:chOff x="468360" y="2060640"/>
            <a:chExt cx="6770520" cy="3096360"/>
          </a:xfrm>
        </p:grpSpPr>
        <p:sp>
          <p:nvSpPr>
            <p:cNvPr id="114" name="Rectangle 8"/>
            <p:cNvSpPr/>
            <p:nvPr/>
          </p:nvSpPr>
          <p:spPr>
            <a:xfrm>
              <a:off x="2771640" y="2060640"/>
              <a:ext cx="4467240" cy="3096360"/>
            </a:xfrm>
            <a:prstGeom prst="rect">
              <a:avLst/>
            </a:prstGeom>
            <a:solidFill>
              <a:srgbClr val="bbe0e3">
                <a:alpha val="11000"/>
              </a:srgbClr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468360" y="2875680"/>
              <a:ext cx="2286000" cy="1466640"/>
            </a:xfrm>
            <a:prstGeom prst="rightArrow">
              <a:avLst>
                <a:gd name="adj1" fmla="val 50000"/>
                <a:gd name="adj2" fmla="val 38967"/>
              </a:avLst>
            </a:prstGeom>
            <a:solidFill>
              <a:srgbClr val="bbe0e3"/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IP5 catalog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rth System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1 – Catalog as lin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exploration of a large graph (cf. Wed. p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2 – data as lin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nowledge discove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ML – Climate Science Markup Language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ml.badc.rl.ac.uk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S - Metadata Objects for Linking Environmental Sciences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oj.badc.rl.ac.uk/moles/wik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 require domain expert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(or many) use case(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4212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cs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iki.esipfed.org/index.php/Semantic_W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telecon 1500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tpnet.org/mailman/listinfo/esip-semantic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tpnet.org/pipermail/esip-semanticweb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rch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29"/>
          <p:cNvSpPr/>
          <p:nvPr/>
        </p:nvSpPr>
        <p:spPr>
          <a:xfrm>
            <a:off x="5062680" y="2106720"/>
            <a:ext cx="2665440" cy="3529080"/>
          </a:xfrm>
          <a:prstGeom prst="ellipse">
            <a:avLst/>
          </a:prstGeom>
          <a:solidFill>
            <a:srgbClr val="3c8c93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3276720" y="1341360"/>
            <a:ext cx="4608360" cy="5112000"/>
          </a:xfrm>
          <a:prstGeom prst="ellipse">
            <a:avLst/>
          </a:prstGeom>
          <a:solidFill>
            <a:srgbClr val="ccff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-Information-Knowledge Eco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2FE-9D62-4D90-A542-2F7D7967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1403280" y="2637000"/>
            <a:ext cx="2448000" cy="2447640"/>
          </a:xfrm>
          <a:prstGeom prst="ellipse">
            <a:avLst/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3276720" y="2637000"/>
            <a:ext cx="2447640" cy="2447640"/>
          </a:xfrm>
          <a:prstGeom prst="ellipse">
            <a:avLst/>
          </a:prstGeom>
          <a:solidFill>
            <a:srgbClr val="72bfc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5148360" y="2637000"/>
            <a:ext cx="2448000" cy="2447640"/>
          </a:xfrm>
          <a:prstGeom prst="ellipse">
            <a:avLst/>
          </a:prstGeom>
          <a:solidFill>
            <a:srgbClr val="3c8c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2151000" y="3354480"/>
            <a:ext cx="96840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4067280" y="3357720"/>
            <a:ext cx="96984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5940360" y="3357720"/>
            <a:ext cx="96840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>
            <a:stCxn id="237" idx="6"/>
            <a:endCxn id="238" idx="2"/>
          </p:cNvCxnSpPr>
          <p:nvPr/>
        </p:nvCxnSpPr>
        <p:spPr>
          <a:xfrm>
            <a:off x="3119040" y="3839760"/>
            <a:ext cx="948600" cy="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1" name="Straight Arrow Connector 17"/>
          <p:cNvCxnSpPr>
            <a:stCxn id="239" idx="2"/>
            <a:endCxn id="238" idx="6"/>
          </p:cNvCxnSpPr>
          <p:nvPr/>
        </p:nvCxnSpPr>
        <p:spPr>
          <a:xfrm flipH="1">
            <a:off x="5036400" y="3843000"/>
            <a:ext cx="9039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42" name="Group 11"/>
          <p:cNvGrpSpPr/>
          <p:nvPr/>
        </p:nvGrpSpPr>
        <p:grpSpPr>
          <a:xfrm>
            <a:off x="971640" y="1844640"/>
            <a:ext cx="6913440" cy="3960720"/>
            <a:chOff x="971640" y="1844640"/>
            <a:chExt cx="6913440" cy="3960720"/>
          </a:xfrm>
        </p:grpSpPr>
        <p:sp>
          <p:nvSpPr>
            <p:cNvPr id="243" name="Donut 7"/>
            <p:cNvSpPr/>
            <p:nvPr/>
          </p:nvSpPr>
          <p:spPr>
            <a:xfrm>
              <a:off x="971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Donut 8"/>
            <p:cNvSpPr/>
            <p:nvPr/>
          </p:nvSpPr>
          <p:spPr>
            <a:xfrm>
              <a:off x="2987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20"/>
          <p:cNvSpPr/>
          <p:nvPr/>
        </p:nvSpPr>
        <p:spPr>
          <a:xfrm>
            <a:off x="2271960" y="2924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1"/>
          <p:cNvSpPr/>
          <p:nvPr/>
        </p:nvSpPr>
        <p:spPr>
          <a:xfrm>
            <a:off x="3831840" y="29242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2"/>
          <p:cNvSpPr/>
          <p:nvPr/>
        </p:nvSpPr>
        <p:spPr>
          <a:xfrm>
            <a:off x="5658120" y="29242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3"/>
          <p:cNvSpPr/>
          <p:nvPr/>
        </p:nvSpPr>
        <p:spPr>
          <a:xfrm>
            <a:off x="2417400" y="1413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795200" y="1413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5"/>
          <p:cNvSpPr/>
          <p:nvPr/>
        </p:nvSpPr>
        <p:spPr>
          <a:xfrm>
            <a:off x="5013000" y="5991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6"/>
          <p:cNvSpPr/>
          <p:nvPr/>
        </p:nvSpPr>
        <p:spPr>
          <a:xfrm>
            <a:off x="3860280" y="436572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7"/>
          <p:cNvSpPr/>
          <p:nvPr/>
        </p:nvSpPr>
        <p:spPr>
          <a:xfrm>
            <a:off x="5824800" y="4365720"/>
            <a:ext cx="13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8"/>
          <p:cNvSpPr/>
          <p:nvPr/>
        </p:nvSpPr>
        <p:spPr>
          <a:xfrm>
            <a:off x="1915560" y="436572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h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"/>
          <p:cNvSpPr/>
          <p:nvPr/>
        </p:nvSpPr>
        <p:spPr>
          <a:xfrm>
            <a:off x="5874120" y="22766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8A8-DEC1-4D76-8F55-7B5EB0E7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971640" y="1844640"/>
            <a:ext cx="6913440" cy="3960720"/>
            <a:chOff x="971640" y="1844640"/>
            <a:chExt cx="6913440" cy="3960720"/>
          </a:xfrm>
        </p:grpSpPr>
        <p:sp>
          <p:nvSpPr>
            <p:cNvPr id="259" name="Donut 5"/>
            <p:cNvSpPr/>
            <p:nvPr/>
          </p:nvSpPr>
          <p:spPr>
            <a:xfrm>
              <a:off x="971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Donut 6"/>
            <p:cNvSpPr/>
            <p:nvPr/>
          </p:nvSpPr>
          <p:spPr>
            <a:xfrm>
              <a:off x="2987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7"/>
          <p:cNvSpPr/>
          <p:nvPr/>
        </p:nvSpPr>
        <p:spPr>
          <a:xfrm>
            <a:off x="2417400" y="1413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795200" y="1413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355760" y="2637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013040" y="35434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or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834880" y="35733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o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5600520" y="2637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1432080" y="46227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6091560" y="4619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0" y="231480"/>
            <a:ext cx="662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&amp; Bias assessment using Fre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186640" y="59436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om the Aerosol Parameter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MODIS-Aeronet-Bias Aug 23.png"/>
          <p:cNvPicPr/>
          <p:nvPr/>
        </p:nvPicPr>
        <p:blipFill>
          <a:blip r:embed="rId2"/>
          <a:stretch/>
        </p:blipFill>
        <p:spPr>
          <a:xfrm>
            <a:off x="152280" y="1309680"/>
            <a:ext cx="8699760" cy="55753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6294600" y="3846600"/>
            <a:ext cx="2792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Mind allows capturing various relations between various aspects of aerosol measurements, algorithms, conditions, validation, etc. The “traditional” worksheets do not support complex multi-dimensional nature of the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4853160" y="963720"/>
            <a:ext cx="3676320" cy="2774880"/>
          </a:xfrm>
          <a:prstGeom prst="rect">
            <a:avLst/>
          </a:prstGeom>
          <a:ln w="0">
            <a:noFill/>
          </a:ln>
        </p:spPr>
      </p:pic>
      <p:sp>
        <p:nvSpPr>
          <p:cNvPr id="274" name="Right Arrow 9"/>
          <p:cNvSpPr/>
          <p:nvPr/>
        </p:nvSpPr>
        <p:spPr>
          <a:xfrm rot="18165600">
            <a:off x="2331000" y="1972080"/>
            <a:ext cx="3316320" cy="101520"/>
          </a:xfrm>
          <a:prstGeom prst="right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883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ight Arrow 10"/>
          <p:cNvSpPr/>
          <p:nvPr/>
        </p:nvSpPr>
        <p:spPr>
          <a:xfrm flipV="1" rot="19426200">
            <a:off x="2954160" y="3609720"/>
            <a:ext cx="2195640" cy="1620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3228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: XML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 ontolog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s format of DTDs (document schemas) to be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s an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extensible typ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ers, Str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efine sub-types, e.g., positiv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cognisable as an ontolog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Sub/super-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nd 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Ran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doma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of 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181B-561F-4901-9D54-5DE894BE9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267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too we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escribe resources in sufficient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calized range and do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the range of hasChild is person when applied to persons and elephant when applied to elep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existence/cardin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person have a mother that is also a person, or that persons have exactly 2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itive, inverse or symmetr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isPartOf is a transitive property, that hasPart is the inverse of isPartOf or that touches is symme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provide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reason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“native” reasoners for non-standar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possible to reason via First Order axioma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5E0-B335-4F66-B6E1-308AEA37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18" name="Isosceles Triangle 3"/>
          <p:cNvGrpSpPr/>
          <p:nvPr/>
        </p:nvGrpSpPr>
        <p:grpSpPr>
          <a:xfrm>
            <a:off x="1468440" y="1060560"/>
            <a:ext cx="5823000" cy="5327640"/>
            <a:chOff x="1468440" y="1060560"/>
            <a:chExt cx="5823000" cy="5327640"/>
          </a:xfrm>
        </p:grpSpPr>
        <p:pic>
          <p:nvPicPr>
            <p:cNvPr id="119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1468440" y="1060560"/>
              <a:ext cx="582300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51280" y="3700440"/>
              <a:ext cx="285732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"/>
          <p:cNvSpPr/>
          <p:nvPr/>
        </p:nvSpPr>
        <p:spPr>
          <a:xfrm>
            <a:off x="1233720" y="2616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460960" y="62676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ability/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502240" y="26161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WL langu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species of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f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ion of OWL syntax and R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D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tricted to FOL fragment (</a:t>
            </a:r>
            <a:r>
              <a:rPr b="0" lang="en-GB" sz="20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ML+O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Li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“easier to implement” subset of OWL 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 lay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L DL </a:t>
            </a:r>
            <a:r>
              <a:rPr b="0" lang="en-GB" sz="20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L full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ithin DL 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L semantics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fficially de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L DL based on </a:t>
            </a:r>
            <a:r>
              <a:rPr b="0" lang="en-GB" sz="2400" spc="-1" strike="noStrike">
                <a:solidFill>
                  <a:srgbClr val="0033cc"/>
                </a:solidFill>
                <a:latin typeface="cmsy10"/>
              </a:rPr>
              <a:t>SHIQ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 it is equivalent to </a:t>
            </a:r>
            <a:r>
              <a:rPr b="0" lang="en-GB" sz="2000" spc="-1" strike="noStrike">
                <a:solidFill>
                  <a:srgbClr val="0033cc"/>
                </a:solidFill>
                <a:latin typeface="cmsy10"/>
              </a:rPr>
              <a:t>SHOIN</a:t>
            </a:r>
            <a:r>
              <a:rPr b="0" lang="en-GB" sz="2000" spc="-1" strike="noStrike">
                <a:solidFill>
                  <a:srgbClr val="0033cc"/>
                </a:solidFill>
                <a:latin typeface="Modern No. 20"/>
              </a:rPr>
              <a:t>(D</a:t>
            </a:r>
            <a:r>
              <a:rPr b="0" lang="en-GB" sz="2000" spc="-1" strike="noStrike" baseline="-25000">
                <a:solidFill>
                  <a:srgbClr val="0033cc"/>
                </a:solidFill>
                <a:latin typeface="Modern No. 20"/>
              </a:rPr>
              <a:t>n</a:t>
            </a:r>
            <a:r>
              <a:rPr b="0" lang="en-GB" sz="2000" spc="-1" strike="noStrike">
                <a:solidFill>
                  <a:srgbClr val="0033cc"/>
                </a:solidFill>
                <a:latin typeface="Modern No. 20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L DL Benefits from many years of D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efined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Formal proper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ell understood (complexity, decid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n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eason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Implemented system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ighly optim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A8D-F7AD-4C28-B0FF-2656A323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2D4-C53F-4EEC-8956-36A909F1DD35}" type="slidenum">
              <a:rPr b="1" lang="en-US" sz="1600" spc="-1" strike="noStrike">
                <a:solidFill>
                  <a:srgbClr val="009999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90560" y="124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C OWL 2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place to start – light introduction to OWL 2 and its relationship to 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w3.org/TR/owl2-overview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and Rat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ore details of the new features in OWL 2 along with their mo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	http://www.w3.org/TR/owl2-new-featur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 introduction to OWL using a running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	http://www.w3.org/TR/owl2-primer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brief synopsis of the features of OWL along with links into relevant documents (both to user and specification doc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	http://www.w3.org/TR/owl2-quick-refere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743200" y="66117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0416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defines only one fragment (OWL 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2 defines three different fragment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computation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ynomial time reasoning for schema and data - Useful for ontologies with large conceptu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Q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st (logspace) query answering using RDBMs via SQL - Useful for large datasets already stored in RD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st (polynomial) query answering using rule-extended DBs - Useful for large datasets stored as RDF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OS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560" y="1413000"/>
            <a:ext cx="88390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 Knowledge Organization System - W3C Recommendation Status on August 18, 200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3.org/2004/02/sko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nything goes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 long curved fruit with a yellow skin and soft, sweet white flesh inside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 bunch of bananas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scop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Historically members of a sheriff's retinue armed with pikes who escorted judges at assiz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history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Deleted 1986. See now Detention, Institutionalization (Persons), or Hospitalization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editorial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Confer with Mr. X. re deletion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chang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Promoted “love” to preferred label, demoted “affection” to alternative label, Joe Bloggs, 2005-08-09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E55-B5F6-4C8B-BE77-0D6C8E7D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304920"/>
            <a:ext cx="575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KOS Vocabular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6000" y="141264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mappingRe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close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exact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broad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narrow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related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9B8-3F3C-4C2A-B234-3C2477D3E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928800" y="5157720"/>
            <a:ext cx="73152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exactMatch is disjoint with each of the properties skos:broadMatch and skos:related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WL ontology (but OWL-Full) so use the subset that is OWL-DL (for reasoning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skos-reference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ig.hpclab.ceid.upatras.gr/SKOS/Skos2Owl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C6C-F671-4837-AA2F-8AF60409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otege.stanford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OP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indswap.org/2004/SWOO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 als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woop.sourgeforge.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ova SemanticWork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ltova.com/download/semanticworks/semantic_web_rdf_owl_editor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 (http://owl-eclipse.projects.semwebcentral.org/InstallSwede.html), goes with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 toolkit http://neon-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Manager http://thmanager.sourceforg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 and other commercia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33F9-7D6B-42B2-A0D4-0F840367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a (http://jena.sourceforge.net/) and Jena/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AME/SAIL (http://www.openrdf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WARI (http://www.kowari.org/)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gara (http://www.mulgara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land (http://librdf.org/index.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gr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s (relational, object-rel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ki, e.g. SPARQL end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4A22-91F0-4B9A-936D-FAD7152B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ers (aka Inference engi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et 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r (and Racer Pro) 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 (IBM) http://www.alphaworks.ibm.com/tech/sh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s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N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s (for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AE2-0783-4D9F-99EF-BF60E4E3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w 4 submissions to W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-S - http://www.w3.org/Submission/OWL-S  (updated journal publication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pringerlink.com/content/wp8q2133g5725340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SO/F/L - Semantic Web Services Ontology/Framework/Language -  http://www.w3.org/Submission/SWSF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MO/X/L - Web Services Modeling Ontology/Exection/Language - http://www.w3.org/Submission/WSMX/ www.wsmo.org, www.ws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SDL - (WSDL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I - http://sadiframework.org/content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6" name="Isosceles Triangle 3"/>
          <p:cNvGrpSpPr/>
          <p:nvPr/>
        </p:nvGrpSpPr>
        <p:grpSpPr>
          <a:xfrm>
            <a:off x="1468440" y="1060560"/>
            <a:ext cx="5823000" cy="5327640"/>
            <a:chOff x="1468440" y="1060560"/>
            <a:chExt cx="5823000" cy="5327640"/>
          </a:xfrm>
        </p:grpSpPr>
        <p:pic>
          <p:nvPicPr>
            <p:cNvPr id="127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1468440" y="1060560"/>
              <a:ext cx="582300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951280" y="3700440"/>
              <a:ext cx="285732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"/>
          <p:cNvSpPr/>
          <p:nvPr/>
        </p:nvSpPr>
        <p:spPr>
          <a:xfrm>
            <a:off x="1987920" y="2616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90760" y="6267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495040" y="2616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it may be th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1987920" y="2616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290760" y="6267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495040" y="2616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Triangle 1"/>
          <p:cNvSpPr/>
          <p:nvPr/>
        </p:nvSpPr>
        <p:spPr>
          <a:xfrm flipH="1">
            <a:off x="3708360" y="2421000"/>
            <a:ext cx="1008000" cy="3456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vity/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 flipH="1">
            <a:off x="1042200" y="1989000"/>
            <a:ext cx="6913800" cy="719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 flipH="1">
            <a:off x="1042200" y="4581360"/>
            <a:ext cx="69138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78800" y="28526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669720" y="2924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54400" y="551664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/http/RD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87120" y="55166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en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19376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ont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a rich description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, concepts, nomencl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explicitly defin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among concepts (hierarchical and latt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stinguishing concepts, refining definitions and relations (constraints, restrictions, regular expre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to a particular domain or area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4000" y="3819600"/>
            <a:ext cx="8458200" cy="2562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260640" y="6316560"/>
            <a:ext cx="81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sl.stanford.edu/people/dlm/papers/ontologies-come-of-age-abstract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from Kendall/McGuinness SemTech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Standar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 - RDFS (Resource Description Framework Schema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- OWL 1.0 (Web Ontology Language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- SPARQL 1.0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age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2.0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nomy - SKOS (Simple Knowledge Organization System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- RIF (Rule Interchange Framework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 1.1 (2012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. No service standards! But, many in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4:40:48Z</dcterms:created>
  <dc:creator>Peter Darnell</dc:creator>
  <dc:description/>
  <dc:language>en-US</dc:language>
  <cp:lastModifiedBy>Peter Fox</cp:lastModifiedBy>
  <dcterms:modified xsi:type="dcterms:W3CDTF">2012-01-03T21:38:43Z</dcterms:modified>
  <cp:revision>179</cp:revision>
  <dc:subject/>
  <dc:title>PowerPoint Presentation</dc:title>
</cp:coreProperties>
</file>